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6858000" cy="5486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D8DF-9CDD-42E4-9213-B87E74F4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D0CE6-3230-4D4E-B5DA-58C45F7C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EF0EF-21DC-429C-BF10-6E335172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CDC4C-38DF-46B6-BCF4-6695CA05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F0CB-1432-4A9A-B4E1-BAF2E89C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BBA29-48C4-4A55-8C98-83AE183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6FB1-3B0A-4F48-8485-336D2F5D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3DA1-3A93-4032-8859-68B4AAB8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3A67-1990-43BE-AFEC-372E90E5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B6630-35F8-4E90-AB58-67487FAA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D2464-F5AD-4C0F-A513-BD386E7F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525D6-820C-4642-9D32-24DFD727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AF708-118E-4D1E-8E5A-ADEF7B6B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D1F28-287D-4D1E-AB03-68EA654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E2ECC-3BD7-4C5D-A1E9-48EF7348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15F98-894B-4B3A-A3A3-7062732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B96A9-46BF-4B11-AB86-AEC0C84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C3D64-7369-4C57-BD0F-259A30F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2ACFA-F387-4752-9DD3-389A99AD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D63D3-2169-44EF-A1FC-5568467C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6371E-B17B-439C-A1C2-8A18083F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E1CD1-1450-4C79-A924-1029A14B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53861-DD97-4887-B795-B08E59C7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5D22F-36BB-4B43-8EC0-A8ABDC1B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476EC-7F0F-4E50-8A6B-5A385209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8FFBB-9887-45E0-A2BD-2B338EC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67A23-F2D0-42C4-866B-1DAC870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FE660-8FF4-4AE6-A3B6-9B07EFC8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875B3-2AA3-4BA3-AEF9-562622DD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80C61-0673-4162-9EC6-A01669B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66D-1BF9-49DE-9C99-8B2AA064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4471A-BF8A-40EB-9B02-D3A72E8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CD2F6-4E4D-434F-884A-829EF95F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37E56-4234-47A1-89C6-A5D14E1E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133C3-6AC0-4FCB-A4CE-B3CF72D8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9AAC0-19B4-480A-9268-47115343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A8DE2-B82C-4B4D-AA19-6FB6BEE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37C8F-67AF-44BE-B5BB-4CDCF48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944F-FF34-44C9-955B-1F53E72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9F279-D533-4EBC-A726-FA32D3B5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FF151-8AEF-44B9-9152-4765B5D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DB1-79B2-4476-AA51-269C3040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64E52-6CEF-4C78-AE3E-0C50FBA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1A20F-3A8D-46BB-A957-E7346BC9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D5F4F-8178-45A7-93C8-78BDEC2A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E30A5-9044-459E-9B76-6B67F92F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97B5A-1542-4E66-B676-CC4CE08D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B64-2DC4-47A3-9F1C-E85C342D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916-70F2-4E17-BECF-654A757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DE9-6DF8-4296-84A5-DF21EFF5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88D-F9F1-4332-A233-C29D3CA8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892-0FDD-4B36-BA2D-438ABC0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ABE-F6D9-4053-9269-CBD38B9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605-C239-4AB6-ABFB-D0F245B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6AC-C9C4-49C2-8F06-B6CF6D6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CED-1BBB-4CAF-9602-DE67588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130-1941-4B10-9538-972474F9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F95C-3139-44AC-A11A-A3CE3EE3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97AC-7900-4EC3-9C78-9F8F7CF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76E9-86A9-4964-B41C-3FC1FA2F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57FD-17D6-47F6-8A4C-198F34C0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83F6-6E69-47AB-B0DD-CFD55A6D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8F83-FF07-4159-A9D0-06B37693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23F8-FB31-4E3C-933F-12659C92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5F7C-E4F8-4C8D-8449-DABC8D8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D739-697A-4F56-B09C-27FA44AD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2F0F-B88B-4BC2-8D10-F3600C4D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533A-27F8-42EC-ACAC-7D23C8D0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0B85-66AC-48CF-ABDC-0E2DCE44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C431-AAE9-457E-A07C-92579170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72C0-880E-4F73-9619-7D8B8E29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57F4-92F8-492D-951F-9F337287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72CE-3A0D-4A47-A89D-90FCF49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5379-E744-434E-8DB2-1FBCA8B6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5AC3-5A9C-4C40-A73F-B461B51A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FF4D-7E29-445D-A5D3-49B677C5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CC3C-EC59-44B9-B1EA-A46A4085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F746-B242-48F2-B2D7-5849CD6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1EA4-0CBA-40B4-91CA-E61C56B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369C-360A-4687-8147-081DDC01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1352-3ED3-49D2-B363-DDDA2AB4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40EA-E7BD-4625-8A10-E0FACFBB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94C2-F654-435C-BED0-992D7C61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4694-891E-4079-9958-C2099454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F8FD-DD00-42D1-A40C-F9D381DD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B0A5-0CB1-4D4F-80D7-6BD48BF3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698F-38A0-4A0D-98B0-21B1140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A9275-2BF8-41F9-BD12-2587ED73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A76D-AD88-4E98-BC30-A258C05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0DA5-26A6-408F-8E06-9A2D13B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292C-5C4A-4147-8E1F-ED6D7285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6567-EC07-4202-88E0-823AD313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970C-5A45-411A-8F76-E8BD5FAA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B3627-D9A1-4CE0-88A3-4EBD313A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AA49-CE79-4F40-AB41-8C42FA50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3FB6-3C18-4200-A8C9-BA8DB09C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0FFC0-6275-4EB1-A6BE-94660740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00A68-D625-425D-8AE7-EE4C314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0D06B-09F2-4274-8AC7-A39AC14B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6486-A7B9-4AA3-93B4-523AC5E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86F9-AA4F-48B9-A03B-6B73150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C05B-77F1-4843-9B2E-0FDE2E23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9C03-FD7C-4577-9D80-1861F80E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86AD-3A6B-4EAB-AA21-938B42B2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AA07-6FA1-4915-867E-7E565A70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59164-6E5D-4D9A-9380-D20625C0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4226-4C19-4CFB-91B2-4035832E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E9CA9-60A4-4F0C-A06E-DBCAF3A8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50FF-E02B-4129-A7C7-B249279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80823-D0DE-45CD-BBCB-FBE08215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BC441-E897-49D9-A6B9-AC77F35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40DA4-1C75-4542-ABF7-7B42E96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4BE1A-F994-473A-992D-F779841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CB1A-5D4C-4202-91B0-B838D25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7783-C8A5-4970-8EF6-ED932391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53FB8-514C-403A-BC28-8C9422D4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57251-E2BA-402B-A159-2D5EC7D8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5B40E-2414-4FD7-9011-07DC7489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2B92B-CDD9-4F6A-B0D0-9B12BAAF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74FC-6C1A-4B64-8CF5-18BE881F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BFE64-F010-4C04-85F7-8699F7A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4639F-4CD0-4AA9-B36E-130074C2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B9D61-81F0-48B6-ACBF-2C405EC7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3317-4AF5-41B6-9157-22BAEBE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4034D-2FFD-4770-8290-1E500147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3441-113A-4EB5-97AC-A934864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BDECF-7871-4BA6-8385-B5344DA7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C1776-90F5-4BA0-BFD2-9BB36829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506AE-DB80-4C5A-AB15-43CE62A8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C3F6-5BA7-4465-8618-7D57D6AC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6107B-574C-4E01-B2EB-E5233535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70D6C-9DFA-453E-BC57-2B0ECED2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313B8F83-932B-49B4-8855-636148ECA82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CF5F7A5A-FC5E-4E85-97E5-DCD0BD434EC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3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3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12C1A8CD-F4CF-4FF6-B50B-2920AAD50C1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ReadyBizInvite_bkgd*.jpg"/>
          <p:cNvPicPr/>
          <p:nvPr/>
        </p:nvPicPr>
        <p:blipFill>
          <a:blip r:embed="rId3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14D95A01-621A-40C9-AF34-7E51C4D8897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FB815883-2B0B-4B22-904B-3A41C89195C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2E093C66-38F7-4E70-9EC7-2EC6D81BCB3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BB3C6176-431A-486A-83A1-661B31C2053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F2EE0F88-2290-438C-9F74-376C8CB9D96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46C4DCAB-3ABE-420C-A872-2C9B0BA6C17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448AA2B6-4D87-4742-AB52-78B0163306A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2A23283D-769E-4B73-B495-EC50A3EF4EE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tle 1"/>
          <p:cNvSpPr/>
          <p:nvPr/>
        </p:nvSpPr>
        <p:spPr>
          <a:xfrm>
            <a:off x="174600" y="184320"/>
            <a:ext cx="35416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elvetica Neue Light"/>
              </a:rPr>
              <a:t>[Insert Year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WORKSHOP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Placeholder 4"/>
          <p:cNvSpPr/>
          <p:nvPr/>
        </p:nvSpPr>
        <p:spPr>
          <a:xfrm>
            <a:off x="4143240" y="1611360"/>
            <a:ext cx="2306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Business Hurricane Worksh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Placeholder 4"/>
          <p:cNvSpPr/>
          <p:nvPr/>
        </p:nvSpPr>
        <p:spPr>
          <a:xfrm>
            <a:off x="4135320" y="2239920"/>
            <a:ext cx="230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Dat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:00 a.m. – 3:00 p.m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Placeholder 4"/>
          <p:cNvSpPr/>
          <p:nvPr/>
        </p:nvSpPr>
        <p:spPr>
          <a:xfrm>
            <a:off x="4135320" y="2976480"/>
            <a:ext cx="2530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Workshop Lo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ity, State Zip Cod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Placeholder 4"/>
          <p:cNvSpPr/>
          <p:nvPr/>
        </p:nvSpPr>
        <p:spPr>
          <a:xfrm>
            <a:off x="4135320" y="3897360"/>
            <a:ext cx="2530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rkshop is free, but registration is required. </a:t>
            </a: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lick he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8"/>
          <p:cNvSpPr/>
          <p:nvPr/>
        </p:nvSpPr>
        <p:spPr>
          <a:xfrm>
            <a:off x="163440" y="2070000"/>
            <a:ext cx="355284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Identify Your Ri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about business continuity, disaster response, and the cost benefit of preparing hurricanes and other business interrup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Develop a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preparedness and mitigation actions needed to ensure safety and business continuity. Complete assessments and begin planning for retrofit projec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Take 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how to perform preparedness and mitigation activities using Ready Busines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163440" y="1641600"/>
            <a:ext cx="35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Ready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[Insert Location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9"/>
          <p:cNvSpPr/>
          <p:nvPr/>
        </p:nvSpPr>
        <p:spPr>
          <a:xfrm>
            <a:off x="163440" y="1227240"/>
            <a:ext cx="355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000" spc="-1" strike="noStrike">
                <a:solidFill>
                  <a:srgbClr val="458626"/>
                </a:solidFill>
                <a:latin typeface="Arial"/>
              </a:rPr>
              <a:t>JOIN 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" descr="FLASH-horizontal-tagline-RGB.jpg"/>
          <p:cNvPicPr/>
          <p:nvPr/>
        </p:nvPicPr>
        <p:blipFill>
          <a:blip r:embed="rId1"/>
          <a:stretch/>
        </p:blipFill>
        <p:spPr>
          <a:xfrm>
            <a:off x="2747880" y="4830840"/>
            <a:ext cx="1387440" cy="4856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DHS_FEMA Logo horizontal.eps"/>
          <p:cNvPicPr/>
          <p:nvPr/>
        </p:nvPicPr>
        <p:blipFill>
          <a:blip r:embed="rId2"/>
          <a:stretch/>
        </p:blipFill>
        <p:spPr>
          <a:xfrm>
            <a:off x="903240" y="4905360"/>
            <a:ext cx="1258920" cy="44928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"/>
          <p:cNvSpPr/>
          <p:nvPr/>
        </p:nvSpPr>
        <p:spPr>
          <a:xfrm>
            <a:off x="4302000" y="479268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Change out and ad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logos as need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22:44:12Z</dcterms:created>
  <dc:creator>AnnaK</dc:creator>
  <dc:description/>
  <dc:language>en-US</dc:language>
  <cp:lastModifiedBy>Sarah Chason</cp:lastModifiedBy>
  <dcterms:modified xsi:type="dcterms:W3CDTF">2017-02-03T20:29:24Z</dcterms:modified>
  <cp:revision>16</cp:revision>
  <dc:subject/>
  <dc:title>PowerPoint Presentation</dc:title>
</cp:coreProperties>
</file>